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9C027-4251-4D43-8347-E534EFA6E36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56EF8-4150-4C81-B7C1-DCB4EBBCE40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7E08-AB25-4A31-A598-8AEA99A09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F087-EB47-43D3-A7A3-DA65A46FA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EF03-71BA-488C-ADFF-59145FAD3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E596-B748-4400-AEFE-454FA3FD9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39D88-32B2-44CC-A804-B58FE04E0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B4C05-03D4-4550-A175-611DBB3B2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29DE4-950B-466F-AC0F-19BF3106E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0956B-59CF-436B-A76C-93C0541BC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07F96-06F9-48CD-B97F-61832836A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D35EB-E080-4FBB-B954-D024092F5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92093-1841-4973-82AD-C41F8F366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26F4-9FAC-4949-8443-1F8705AB5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91013-7A6E-4C97-B5FC-C31C4E881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64A96-50CD-4F82-A939-8F49BB698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4BDA3-D99E-4E7E-8D04-C2EB768AE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7A1DE-7827-4C97-AA68-099D5976E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83AF5-8C31-4E25-8556-48A3DC6A0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448C87-7A29-4492-8419-15C2F6613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DB41E5-874B-4496-B9B5-EF26B1738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8137D8-2C9C-445B-8B25-2C2522213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F5C698-DC05-49E8-83B6-3CFF14DC0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C480F8-2936-4F70-9EDB-5AB0B89FF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CB7C-2BA5-41FA-8D7C-BFF23C292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9B4B50-924A-447C-B47B-A542C016F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639335-9B04-4BA8-9F6B-84EDC27C0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7659BA-FF1C-4D8F-8928-58D2624AA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09D24B-648B-4249-847C-4BC01BBF7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A755B2-22EA-450E-BD58-3DF04FDD8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2FD718-5DDA-44D2-B7C1-5CB56CB70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D13C35-0D0B-4362-83F6-47CD70779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F2906D-A87E-4DD9-8AEB-9214AB8DB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56B4B0-3D0C-4280-9B27-86EF08C26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191A2F-7589-4E8D-BF10-40414E8EE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EC6F-7AF0-4B0D-BF9B-064E51A78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919831-60FC-4DAA-931C-BB6A873D0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D2E623-7F12-4DD1-A297-5268A60B1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140BAE-54AC-4392-8A80-04367B8EB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1540A4-6E87-4525-9F61-0131A09DD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4B2DDB-0F1C-4164-9A5F-423732A37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CB69C9-6CF4-42FF-A158-4D8817FF3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09BB2B-55FE-4212-936F-2CA1692D8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FE7E7E-FE90-41F5-9932-D7AC737AF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C82907-42AC-4946-BCFE-DC91AC1D4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EA0F-4255-47D2-8FA7-412B2347F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5E01-1B4F-482C-B3C2-96582AA68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502D-F87A-4E3A-957B-C7E63983F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2B7D-1644-45FA-8B22-544E85714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047C-8BF9-4DEC-B095-4E3DBC759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91334-CF17-46D8-A477-7811663087B0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DA4FE-DF4B-47E4-AB61-98F6905D5D7D}" type="slidenum">
              <a:rPr b="0" lang="ru-RU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53" name="Straight Connector 27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2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2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30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3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3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3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34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35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1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5fcbef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F144F-D8DB-4869-A9CE-4539D0AC3020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35BDB-C71C-46B3-9C75-1589FE77FCAC}" type="slidenum">
              <a:rPr b="0" lang="ru-RU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D76F5-A664-450A-ABE4-D45B78D23D83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95348-B9F1-456E-AA06-CEEDD0AC1673}" type="slidenum">
              <a:rPr b="0" lang="ru-RU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2DAEC-EA30-4370-AB4E-037FFD5F9956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4AD42-5247-4B0E-BDEF-78ED682C4460}" type="slidenum">
              <a:rPr b="0" lang="ru-RU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1720" y="360000"/>
            <a:ext cx="5732280" cy="69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500" spc="-1" strike="noStrike">
                <a:solidFill>
                  <a:srgbClr val="5fcbef"/>
                </a:solidFill>
                <a:latin typeface="Trebuchet MS"/>
              </a:rPr>
              <a:t>1270, Стратегический менеджмент базовый курс</a:t>
            </a:r>
            <a:endParaRPr b="0" lang="en-US" sz="25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187280" y="4233960"/>
            <a:ext cx="7407360" cy="94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Trebuchet MS"/>
              </a:rPr>
              <a:t>Канд. экон. наук, доцент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Trebuchet MS"/>
              </a:rPr>
              <a:t>Попова Инна Викторовн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1116000" y="1989000"/>
            <a:ext cx="7407360" cy="12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6666"/>
                </a:solidFill>
                <a:latin typeface="Trebuchet MS"/>
                <a:ea typeface="Arial"/>
              </a:rPr>
              <a:t>Разработка стратегии на корпоративном уровн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5"/>
          <p:cNvSpPr/>
          <p:nvPr/>
        </p:nvSpPr>
        <p:spPr>
          <a:xfrm>
            <a:off x="1093680" y="3357720"/>
            <a:ext cx="74073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rmAutofit/>
          </a:bodyPr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90d33"/>
                </a:solidFill>
                <a:latin typeface="Trebuchet MS"/>
                <a:ea typeface="Arial"/>
              </a:rPr>
              <a:t>Тема</a:t>
            </a:r>
            <a:r>
              <a:rPr b="1" lang="en-US" sz="2600" spc="-1" strike="noStrike">
                <a:solidFill>
                  <a:srgbClr val="090d33"/>
                </a:solidFill>
                <a:latin typeface="Trebuchet MS"/>
                <a:ea typeface="Arial"/>
              </a:rPr>
              <a:t> 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2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 u="sng">
                <a:solidFill>
                  <a:srgbClr val="5fcbef"/>
                </a:solidFill>
                <a:uFillTx/>
                <a:latin typeface="Trebuchet MS"/>
              </a:rPr>
              <a:t>Стратегия роста через диверсификацию</a:t>
            </a:r>
            <a:endParaRPr b="0" lang="en-US" sz="32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988640"/>
            <a:ext cx="8229600" cy="433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редполагает выход за рамки отраслевой технологической цепочки, используя возможности, открывающиеся вне зоны традиционной деятельности фирмы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огласно принципу слияния существует связанная и несвязанная диверсификация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9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5fcbef"/>
                </a:solidFill>
                <a:latin typeface="Trebuchet MS"/>
              </a:rPr>
              <a:t>Диверсификация</a:t>
            </a:r>
            <a:endParaRPr b="0" lang="en-US" sz="32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99680" y="142884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 u="sng">
                <a:solidFill>
                  <a:srgbClr val="404040"/>
                </a:solidFill>
                <a:uFillTx/>
                <a:latin typeface="Trebuchet MS"/>
              </a:rPr>
              <a:t>Связанная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6840" y="2071440"/>
            <a:ext cx="4040280" cy="42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о сути является </a:t>
            </a:r>
            <a:r>
              <a:rPr b="0" i="1" lang="ru-RU" sz="1800" spc="-1" strike="noStrike">
                <a:solidFill>
                  <a:srgbClr val="404040"/>
                </a:solidFill>
                <a:latin typeface="Trebuchet MS"/>
              </a:rPr>
              <a:t>интеграцией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(горизонтальной или вертикальной), т.е. основывается на присоединении к предприятию новых видов деятельности на стадиях до или после производства основного продукт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43280" y="1428480"/>
            <a:ext cx="4042080" cy="654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 u="sng">
                <a:solidFill>
                  <a:srgbClr val="404040"/>
                </a:solidFill>
                <a:uFillTx/>
                <a:latin typeface="Trebuchet MS"/>
              </a:rPr>
              <a:t>Несвязанная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644720" y="2071440"/>
            <a:ext cx="4041720" cy="42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хватывает такие направления деятельности, которые не имеют прямой непосредственной связи с основной деятельностью предприятия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бывает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стратегия центрированной диверсификации ;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стратегия конгломератной диверсификации 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5" name="Нижний колонтитул 2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 u="sng">
                <a:solidFill>
                  <a:srgbClr val="5fcbef"/>
                </a:solidFill>
                <a:uFillTx/>
                <a:latin typeface="Trebuchet MS"/>
              </a:rPr>
              <a:t>Стратегии сокращения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157176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rebuchet MS"/>
              </a:rPr>
              <a:t>Ликвидация</a:t>
            </a:r>
            <a:r>
              <a:rPr b="0" i="1" lang="ru-RU" sz="1800" spc="-1" strike="noStrike">
                <a:solidFill>
                  <a:srgbClr val="404040"/>
                </a:solidFill>
                <a:latin typeface="Trebuchet MS"/>
              </a:rPr>
              <a:t> —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наиболее радикальный вариант сокращения, связанный с полной распродажей материальных запасов и активов фирмы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rebuchet MS"/>
              </a:rPr>
              <a:t>Продажа организации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фирме, для которой данная сфера бизнеса может представлять интерес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rebuchet MS"/>
              </a:rPr>
              <a:t>Сокращение и переориентация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применяются, когда есть необходимость в сокращении фирмой части своей деятельности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rebuchet MS"/>
              </a:rPr>
              <a:t>Дезинтеграция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предусматривает отказ фирмы от определенных производственных цепочек и переход на внешние сделки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8" name="Нижний колонтитул 2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5fcbef"/>
                </a:solidFill>
                <a:latin typeface="Trebuchet MS"/>
              </a:rPr>
              <a:t>Матрица «товар-рынок»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pic>
        <p:nvPicPr>
          <p:cNvPr id="260" name="Picture 2" descr=""/>
          <p:cNvPicPr/>
          <p:nvPr/>
        </p:nvPicPr>
        <p:blipFill>
          <a:blip r:embed="rId1"/>
          <a:stretch/>
        </p:blipFill>
        <p:spPr>
          <a:xfrm>
            <a:off x="108000" y="1773360"/>
            <a:ext cx="8319960" cy="4214520"/>
          </a:xfrm>
          <a:prstGeom prst="rect">
            <a:avLst/>
          </a:prstGeom>
          <a:ln w="0">
            <a:noFill/>
          </a:ln>
        </p:spPr>
      </p:pic>
      <p:sp>
        <p:nvSpPr>
          <p:cNvPr id="261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5fcbef"/>
                </a:solidFill>
                <a:latin typeface="Trebuchet MS"/>
              </a:rPr>
              <a:t>План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бщие корпоративные стратегии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тратегии интенсивного рост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тратегия интеграционного рост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тратегия диверсифкационного рост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тратегия сокращения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 u="sng">
                <a:solidFill>
                  <a:srgbClr val="5fcbef"/>
                </a:solidFill>
                <a:uFillTx/>
                <a:latin typeface="Trebuchet MS"/>
              </a:rPr>
              <a:t>Типы корпоративных стратегий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rebuchet MS"/>
              </a:rPr>
              <a:t>стабильности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- сосредоточена на существующих направ­лениях деятельности организации и сохранении конкурентной позиции на рынке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rebuchet MS"/>
              </a:rPr>
              <a:t>роста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- предусматривает превышение уровня развития фирмы над предыдущим периодом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rebuchet MS"/>
              </a:rPr>
              <a:t>сокращения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- по сути, стратегия отступления, которая предусматривает установление уровня целей организации ниже достигнутого в прошлом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8" name="Нижний колонтитул 2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5fcbef"/>
                </a:solidFill>
                <a:latin typeface="Trebuchet MS"/>
              </a:rPr>
              <a:t>Дерево общих стратегий</a:t>
            </a:r>
            <a:endParaRPr b="0" lang="en-US" sz="3200" spc="-1" strike="noStrike">
              <a:solidFill>
                <a:srgbClr val="5fcbef"/>
              </a:solidFill>
              <a:latin typeface="Trebuchet MS"/>
            </a:endParaRPr>
          </a:p>
        </p:txBody>
      </p:sp>
      <p:pic>
        <p:nvPicPr>
          <p:cNvPr id="230" name="Picture 2" descr=""/>
          <p:cNvPicPr/>
          <p:nvPr/>
        </p:nvPicPr>
        <p:blipFill>
          <a:blip r:embed="rId1"/>
          <a:stretch/>
        </p:blipFill>
        <p:spPr>
          <a:xfrm>
            <a:off x="539640" y="1285920"/>
            <a:ext cx="6858000" cy="5286240"/>
          </a:xfrm>
          <a:prstGeom prst="rect">
            <a:avLst/>
          </a:prstGeom>
          <a:ln w="0">
            <a:noFill/>
          </a:ln>
        </p:spPr>
      </p:pic>
      <p:sp>
        <p:nvSpPr>
          <p:cNvPr id="231" name="Нижний колонтитул 2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8229600" cy="43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 u="sng">
                <a:solidFill>
                  <a:srgbClr val="5fcbef"/>
                </a:solidFill>
                <a:uFillTx/>
                <a:latin typeface="Trebuchet MS"/>
              </a:rPr>
              <a:t>Интенсивный рост</a:t>
            </a:r>
            <a:endParaRPr b="0" lang="en-US" sz="3200" spc="-1" strike="noStrike">
              <a:solidFill>
                <a:srgbClr val="5fcbef"/>
              </a:solidFill>
              <a:latin typeface="Trebuchet MS"/>
            </a:endParaRPr>
          </a:p>
        </p:txBody>
      </p:sp>
      <p:pic>
        <p:nvPicPr>
          <p:cNvPr id="233" name="Picture 2" descr=""/>
          <p:cNvPicPr/>
          <p:nvPr/>
        </p:nvPicPr>
        <p:blipFill>
          <a:blip r:embed="rId1"/>
          <a:stretch/>
        </p:blipFill>
        <p:spPr>
          <a:xfrm>
            <a:off x="428760" y="1125360"/>
            <a:ext cx="7358040" cy="5588280"/>
          </a:xfrm>
          <a:prstGeom prst="rect">
            <a:avLst/>
          </a:prstGeom>
          <a:ln w="0">
            <a:noFill/>
          </a:ln>
        </p:spPr>
      </p:pic>
      <p:sp>
        <p:nvSpPr>
          <p:cNvPr id="234" name="Нижний колонтитул 2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28400" y="499680"/>
            <a:ext cx="6807240" cy="79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 u="sng">
                <a:solidFill>
                  <a:srgbClr val="5fcbef"/>
                </a:solidFill>
                <a:uFillTx/>
                <a:latin typeface="Trebuchet MS"/>
              </a:rPr>
              <a:t>Стратегия интеграционного роста</a:t>
            </a:r>
            <a:endParaRPr b="0" lang="en-US" sz="32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915920"/>
            <a:ext cx="8229600" cy="44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вязана с возможностями объединения с другими элементами отрасли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целью является рост в пределах индустриальной технологической цепочки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правдана, когда нет возможности роста по отношению к базовому рынку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бывает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вертикальная: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полная;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частичная;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горизонтальная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7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2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5fcbef"/>
                </a:solidFill>
                <a:latin typeface="Trebuchet MS"/>
              </a:rPr>
              <a:t>Вертикальная интеграция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pic>
        <p:nvPicPr>
          <p:cNvPr id="239" name="Picture 2" descr=""/>
          <p:cNvPicPr/>
          <p:nvPr/>
        </p:nvPicPr>
        <p:blipFill>
          <a:blip r:embed="rId1"/>
          <a:stretch/>
        </p:blipFill>
        <p:spPr>
          <a:xfrm>
            <a:off x="285840" y="2000160"/>
            <a:ext cx="7599240" cy="1622520"/>
          </a:xfrm>
          <a:prstGeom prst="rect">
            <a:avLst/>
          </a:prstGeom>
          <a:ln w="0">
            <a:noFill/>
          </a:ln>
        </p:spPr>
      </p:pic>
      <p:sp>
        <p:nvSpPr>
          <p:cNvPr id="240" name="Нижний колонтитул 2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2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5fcbef"/>
                </a:solidFill>
                <a:latin typeface="Trebuchet MS"/>
              </a:rPr>
              <a:t>Горизонтальная интеграция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57176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реследует цель усиления позиции фирмы путем поглощения или слияния с однопрофильными организациями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наиболее существенным при данном способе роста является достижение положительной синергии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 u="sng">
                <a:solidFill>
                  <a:srgbClr val="404040"/>
                </a:solidFill>
                <a:uFillTx/>
                <a:latin typeface="Trebuchet MS"/>
              </a:rPr>
              <a:t>Синергия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— это стратегические преимущества, которые возникают при соединении двух и более орга­низаций в рамках единой структуры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" name="Нижний колонтитул 2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5fcbef"/>
                </a:solidFill>
                <a:latin typeface="Trebuchet MS"/>
              </a:rPr>
              <a:t>Источники синергетического эффекта</a:t>
            </a:r>
            <a:endParaRPr b="0" lang="en-US" sz="32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64304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нижение операционных расходов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нижение финансовых рисков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увеличение эффективности менеджмента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улучшение конкурентной позиции на рынке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увеличение прибыли в денежном выражении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нижение потребности в инвестициях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6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6T11:05:37Z</dcterms:created>
  <dc:creator>И.В.</dc:creator>
  <dc:description/>
  <dc:language>en-US</dc:language>
  <cp:lastModifiedBy>Толя</cp:lastModifiedBy>
  <dcterms:modified xsi:type="dcterms:W3CDTF">2014-12-01T07:00:06Z</dcterms:modified>
  <cp:revision>12</cp:revision>
  <dc:subject/>
  <dc:title>Разработка стратегии на корпоративном уровне</dc:title>
</cp:coreProperties>
</file>